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4FE-0173-4FF3-9C4C-235F2470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409-07D7-4E5D-939E-4A5FBFD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BB9-25EC-4971-8376-EE9227E9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37C-ACC0-40DD-A022-1995BABD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4AB-AD71-4CF4-BC91-13D1F71F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1A0-CC7F-4917-8004-B4A1D9EB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E13-E8F2-4318-95D7-45B7C030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58E-FF74-4D7A-9DB0-E71A609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603-E646-47E1-8842-4DCE62D2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4AB-5363-4A72-A209-F2292CA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DE5-8CF0-4760-A9D6-F4E7AB7E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5ED-7CE9-41AA-82A0-94FD9AE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C6FE-DA66-4E87-BDA4-A28EC6CC17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Jason Bair</cp:lastModifiedBy>
  <dcterms:modified xsi:type="dcterms:W3CDTF">2011-08-15T23:52:26Z</dcterms:modified>
  <cp:revision>50</cp:revision>
  <dc:subject/>
  <dc:title>TITLE</dc:title>
</cp:coreProperties>
</file>